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56BA-18AB-45DB-BFD6-97EA0820FE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0A8-1860-4629-A8C1-0867CD4EAE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C233-E46A-4AD1-9D00-043FDB2C7F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EF9D-235C-4EBF-A0C3-EA957D4FD3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AF9E-AE25-4F2C-8353-87555711BA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AA21-1F16-4540-93C4-08B91A1BBB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C8F8-5258-480C-8B95-28CB4AF6A2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CFD6-8692-42BB-B4FA-E71746CA8F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47B-A6DB-4EAB-89A2-402C867CB6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56D-3B27-47EB-B8D5-7DDA51F80D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4455-E3DD-4A46-B655-2F3847F3E5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41B-8267-45E5-95C5-9E8CEC10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F30-64E3-4E91-A273-43C56647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C05-1F22-46E4-964D-ED12E008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2A1-3346-4C7E-9BF9-B70F4F2D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B01-12A8-4F0D-A3D6-6E254F92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AD2-76F5-4802-A25B-111F8FE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5C5-4EEF-4A53-807E-7DBABDE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CFD-50F7-4B5E-A90E-745707B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C3B-2293-4CC6-A165-85A6BA96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E60-DB31-4950-9FB9-0A81273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AE2-7755-4B1F-BE90-28AB4FF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E1C-0CD9-4C12-B6A5-A6B76ED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FE0A-9F7D-4AE5-A3FA-FCFD8671AB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hyperlink" Target="http://www.communication4all.co.uk/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icture6.png"/>
          <p:cNvPicPr/>
          <p:nvPr/>
        </p:nvPicPr>
        <p:blipFill>
          <a:blip r:embed="rId1"/>
          <a:stretch/>
        </p:blipFill>
        <p:spPr>
          <a:xfrm>
            <a:off x="2344680" y="0"/>
            <a:ext cx="44546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219320" y="1706400"/>
            <a:ext cx="6675480" cy="121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age4.jpg"/>
          <p:cNvPicPr/>
          <p:nvPr/>
        </p:nvPicPr>
        <p:blipFill>
          <a:blip r:embed="rId3"/>
          <a:stretch/>
        </p:blipFill>
        <p:spPr>
          <a:xfrm>
            <a:off x="8466120" y="6286680"/>
            <a:ext cx="517680" cy="45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Image4.jpg"/>
          <p:cNvPicPr/>
          <p:nvPr/>
        </p:nvPicPr>
        <p:blipFill>
          <a:blip r:embed="rId1"/>
          <a:stretch/>
        </p:blipFill>
        <p:spPr>
          <a:xfrm>
            <a:off x="8466120" y="6286680"/>
            <a:ext cx="517680" cy="45864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2" descr=""/>
          <p:cNvPicPr/>
          <p:nvPr/>
        </p:nvPicPr>
        <p:blipFill>
          <a:blip r:embed="rId2"/>
          <a:stretch/>
        </p:blipFill>
        <p:spPr>
          <a:xfrm>
            <a:off x="1146240" y="420840"/>
            <a:ext cx="6681600" cy="1212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285920" y="58579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mages and Presentation ©Bev Evan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www.communication4all.co.u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Picture2.png"/>
          <p:cNvPicPr/>
          <p:nvPr/>
        </p:nvPicPr>
        <p:blipFill>
          <a:blip r:embed="rId4"/>
          <a:stretch/>
        </p:blipFill>
        <p:spPr>
          <a:xfrm>
            <a:off x="3500280" y="1785960"/>
            <a:ext cx="237348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icture1.png"/>
          <p:cNvPicPr/>
          <p:nvPr/>
        </p:nvPicPr>
        <p:blipFill>
          <a:blip r:embed="rId1"/>
          <a:stretch/>
        </p:blipFill>
        <p:spPr>
          <a:xfrm>
            <a:off x="2351160" y="0"/>
            <a:ext cx="4441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357280" y="857160"/>
            <a:ext cx="4429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 bean is planted in the ground. It is dry and has a tough outer shell. It only takes a few things to make changes happ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icture2.png"/>
          <p:cNvPicPr/>
          <p:nvPr/>
        </p:nvPicPr>
        <p:blipFill>
          <a:blip r:embed="rId1"/>
          <a:stretch/>
        </p:blipFill>
        <p:spPr>
          <a:xfrm>
            <a:off x="2341440" y="0"/>
            <a:ext cx="4461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57280" y="1500120"/>
            <a:ext cx="4429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sun provides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ea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igh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The plant also needs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water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utrients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rom the soil to help it grow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icture3.png"/>
          <p:cNvPicPr/>
          <p:nvPr/>
        </p:nvPicPr>
        <p:blipFill>
          <a:blip r:embed="rId1"/>
          <a:stretch/>
        </p:blipFill>
        <p:spPr>
          <a:xfrm>
            <a:off x="2346480" y="0"/>
            <a:ext cx="44510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2357280" y="1714680"/>
            <a:ext cx="4429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bean begins to sprout and grow. This stage is calle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germin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icture4.png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"/>
          <p:cNvSpPr/>
          <p:nvPr/>
        </p:nvSpPr>
        <p:spPr>
          <a:xfrm>
            <a:off x="2357280" y="1500120"/>
            <a:ext cx="4429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seed is swelling and getting bigger as the plant develops. The hard casing drops off, into the soi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icture5.png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"/>
          <p:cNvSpPr/>
          <p:nvPr/>
        </p:nvSpPr>
        <p:spPr>
          <a:xfrm>
            <a:off x="2357280" y="0"/>
            <a:ext cx="442944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be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lant begi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o develop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tem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roots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eav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 The stem grows upwards, towards the light, while the roots are beneath the grou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icture6.png"/>
          <p:cNvPicPr/>
          <p:nvPr/>
        </p:nvPicPr>
        <p:blipFill>
          <a:blip r:embed="rId1"/>
          <a:stretch/>
        </p:blipFill>
        <p:spPr>
          <a:xfrm>
            <a:off x="2344680" y="0"/>
            <a:ext cx="4454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"/>
          <p:cNvSpPr/>
          <p:nvPr/>
        </p:nvSpPr>
        <p:spPr>
          <a:xfrm>
            <a:off x="2357280" y="1571760"/>
            <a:ext cx="4429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The leaves open as the bean plant keeps  grow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Picture7.png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"/>
          <p:cNvSpPr/>
          <p:nvPr/>
        </p:nvSpPr>
        <p:spPr>
          <a:xfrm>
            <a:off x="2357280" y="0"/>
            <a:ext cx="442944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bean pla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w develops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lower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 The flowers have male and female parts so that the plant will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ollina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Picture8.png"/>
          <p:cNvPicPr/>
          <p:nvPr/>
        </p:nvPicPr>
        <p:blipFill>
          <a:blip r:embed="rId1"/>
          <a:stretch/>
        </p:blipFill>
        <p:spPr>
          <a:xfrm>
            <a:off x="2346480" y="0"/>
            <a:ext cx="4451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"/>
          <p:cNvSpPr/>
          <p:nvPr/>
        </p:nvSpPr>
        <p:spPr>
          <a:xfrm>
            <a:off x="2357280" y="0"/>
            <a:ext cx="378000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flowers on the plant are fertilised and new bea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grow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50:37Z</dcterms:created>
  <dc:creator>Bev Evans</dc:creator>
  <dc:description/>
  <dc:language>en-US</dc:language>
  <cp:lastModifiedBy>Bev Evans</cp:lastModifiedBy>
  <dcterms:modified xsi:type="dcterms:W3CDTF">2009-05-21T19:07:41Z</dcterms:modified>
  <cp:revision>2</cp:revision>
  <dc:subject/>
  <dc:title>Slide 1</dc:title>
</cp:coreProperties>
</file>